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C04-C77B-43ED-A623-038F8688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C04-359B-434A-9922-CFA05CBB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159-8753-4818-9521-086FE319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84C-84BD-42F2-BD86-36131778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778-FC78-404D-899C-7C8B41E9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D12-9220-4C37-9188-DBCB7C91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932-6A65-4917-A96A-CAFAA30A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632-E1D9-4991-AD05-E4BA7D45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450-E7F5-4146-B576-C0F52EEA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69C-33B6-4A45-9989-906F5CB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491-6A62-486F-BCCA-23ACE1F0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47E-EC70-4E18-8481-F5DD1FD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5F9A-0BA4-47F8-9125-4B5EEF6C6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PiPFKjjAAf3ujzbkF/SIG=12979fh12/EXP=1257429391/**http%3A//www.flickr.com/photos/21679383@N06/2183775994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x55iPFK0AgBCnOjzbkF/SIG=124jf42ok/EXP=1257429497/**http%3A//www.flickr.com/photos/carrier/1672866316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59280"/>
            <a:ext cx="4275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3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e ball with my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FAMILY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520" y="7632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laying catch by MShades."/>
          <p:cNvPicPr/>
          <p:nvPr/>
        </p:nvPicPr>
        <p:blipFill>
          <a:blip r:embed="rId1"/>
          <a:srcRect l="10091" t="29847" r="26682" b="9566"/>
          <a:stretch/>
        </p:blipFill>
        <p:spPr>
          <a:xfrm>
            <a:off x="366840" y="1219320"/>
            <a:ext cx="351936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Climbing The Stairs by Joe Shlabotnik."/>
          <p:cNvPicPr/>
          <p:nvPr/>
        </p:nvPicPr>
        <p:blipFill>
          <a:blip r:embed="rId2"/>
          <a:srcRect l="16849" t="0" r="26787" b="0"/>
          <a:stretch/>
        </p:blipFill>
        <p:spPr>
          <a:xfrm>
            <a:off x="4807080" y="1143000"/>
            <a:ext cx="398592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800600" y="5958000"/>
            <a:ext cx="396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7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 stair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4120" y="15228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with our arms/ha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View Image">
            <a:hlinkClick r:id="rId1"/>
          </p:cNvPr>
          <p:cNvPicPr/>
          <p:nvPr/>
        </p:nvPicPr>
        <p:blipFill>
          <a:blip r:embed="rId2"/>
          <a:srcRect l="33556" t="28800" r="38018" b="21120"/>
          <a:stretch/>
        </p:blipFill>
        <p:spPr>
          <a:xfrm>
            <a:off x="233280" y="1227240"/>
            <a:ext cx="3843360" cy="508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0" name="" descr="View Image">
            <a:hlinkClick r:id="rId3"/>
          </p:cNvPr>
          <p:cNvPicPr/>
          <p:nvPr/>
        </p:nvPicPr>
        <p:blipFill>
          <a:blip r:embed="rId4"/>
          <a:srcRect l="9986" t="0" r="19775" b="0"/>
          <a:stretch/>
        </p:blipFill>
        <p:spPr>
          <a:xfrm>
            <a:off x="5450040" y="1066680"/>
            <a:ext cx="2776320" cy="5257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-76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irs with our legs/feet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821600">
            <a:off x="3123720" y="121932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2641200">
            <a:off x="5638680" y="487620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6668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008000"/>
                </a:solidFill>
                <a:uFillTx/>
                <a:latin typeface="Gill Sans Ultra Bold"/>
              </a:rPr>
              <a:t>T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en 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n gym, 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0040" y="603396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5960" y="6019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Gill Sans Ultra Bold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654" t="10742" r="25333" b="8516"/>
          <a:stretch/>
        </p:blipFill>
        <p:spPr>
          <a:xfrm>
            <a:off x="5987880" y="838080"/>
            <a:ext cx="30798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285" t="4194" r="34064" b="4194"/>
          <a:stretch/>
        </p:blipFill>
        <p:spPr>
          <a:xfrm>
            <a:off x="3187800" y="838080"/>
            <a:ext cx="25272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705" t="0" r="22881" b="6553"/>
          <a:stretch/>
        </p:blipFill>
        <p:spPr>
          <a:xfrm>
            <a:off x="76320" y="838080"/>
            <a:ext cx="272736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4716360" y="13780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879240" y="935640"/>
            <a:ext cx="3429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3800" spc="-1" strike="noStrike" u="sng">
                <a:solidFill>
                  <a:srgbClr val="ff0000"/>
                </a:solidFill>
                <a:uFillTx/>
                <a:latin typeface="Gill Sans Ultra Bold"/>
              </a:rPr>
              <a:t>GYM</a:t>
            </a: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,               we will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2024640" y="202500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5400" y="3200400"/>
            <a:ext cx="2686320" cy="358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37445" b="0"/>
          <a:stretch/>
        </p:blipFill>
        <p:spPr>
          <a:xfrm>
            <a:off x="76320" y="3124080"/>
            <a:ext cx="2590560" cy="365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 rot="5400000">
            <a:off x="-1404000" y="1492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8506" t="10647" r="10732" b="25299"/>
          <a:stretch/>
        </p:blipFill>
        <p:spPr>
          <a:xfrm>
            <a:off x="2895480" y="4038480"/>
            <a:ext cx="32004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912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2924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2286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2286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 rot="5400000">
            <a:off x="4068360" y="57780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8060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43434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43434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 rot="5400000">
            <a:off x="-503280" y="50148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09:04Z</dcterms:created>
  <dc:creator>TeachCLO</dc:creator>
  <dc:description/>
  <dc:language>en-US</dc:language>
  <cp:lastModifiedBy>fps</cp:lastModifiedBy>
  <dcterms:modified xsi:type="dcterms:W3CDTF">2011-06-17T17:40:55Z</dcterms:modified>
  <cp:revision>13</cp:revision>
  <dc:subject/>
  <dc:title>Slide 1</dc:title>
</cp:coreProperties>
</file>