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E71F-0A93-4118-890E-A531B449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FC1-3C7A-4045-BA5B-6462765F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4AD-7008-427B-82F2-BA099A95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EB8-0AB7-416B-A892-A0BFCEC8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0F5-6C18-4C79-93E0-28722CF5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135-B3D9-49C1-842F-9DD7AFE4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A61-E134-48EF-949F-94045F54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5AA-3AFB-451F-B7A6-196964CD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CAE-EEB5-4A54-92F6-29D21EDD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1EE-4C69-4D7F-8602-2DE5D77F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519-5F6B-4897-B47C-6BBF10ED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C3A6-075E-4FA6-A734-FF1540A5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9592-BCC1-47CA-AB6C-CB3A0FF70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wPiPFKjjAAf3ujzbkF/SIG=12979fh12/EXP=1257429391/**http%3A//www.flickr.com/photos/21679383@N06/2183775994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WTbx55iPFK0AgBCnOjzbkF/SIG=124jf42ok/EXP=1257429497/**http%3A//www.flickr.com/photos/carrier/1672866316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759280"/>
            <a:ext cx="4275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I </a:t>
            </a:r>
            <a:r>
              <a:rPr b="0" lang="en-US" sz="33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3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the ball with my </a:t>
            </a:r>
            <a:r>
              <a:rPr b="0" lang="en-US" sz="3300" spc="-1" strike="noStrike" u="sng">
                <a:solidFill>
                  <a:srgbClr val="ff0000"/>
                </a:solidFill>
                <a:uFillTx/>
                <a:latin typeface="Gill Sans Ultra Bold"/>
              </a:rPr>
              <a:t>FAMILY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520" y="76320"/>
            <a:ext cx="327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At</a:t>
            </a: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0" lang="en-US" sz="5400" spc="-1" strike="noStrike" u="sng">
                <a:solidFill>
                  <a:srgbClr val="008000"/>
                </a:solidFill>
                <a:uFillTx/>
                <a:latin typeface="Gill Sans Ultra Bold"/>
              </a:rPr>
              <a:t>HOME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Playing catch by MShades."/>
          <p:cNvPicPr/>
          <p:nvPr/>
        </p:nvPicPr>
        <p:blipFill>
          <a:blip r:embed="rId1"/>
          <a:srcRect l="10091" t="29847" r="26682" b="9566"/>
          <a:stretch/>
        </p:blipFill>
        <p:spPr>
          <a:xfrm>
            <a:off x="366840" y="1219320"/>
            <a:ext cx="3519360" cy="449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4" name="" descr="Climbing The Stairs by Joe Shlabotnik."/>
          <p:cNvPicPr/>
          <p:nvPr/>
        </p:nvPicPr>
        <p:blipFill>
          <a:blip r:embed="rId2"/>
          <a:srcRect l="16849" t="0" r="26787" b="0"/>
          <a:stretch/>
        </p:blipFill>
        <p:spPr>
          <a:xfrm>
            <a:off x="4807080" y="1143000"/>
            <a:ext cx="3985920" cy="472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4800600" y="5958000"/>
            <a:ext cx="39625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 Rounded MT Bold"/>
              </a:rPr>
              <a:t>I </a:t>
            </a:r>
            <a:r>
              <a:rPr b="0" lang="en-US" sz="37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3700" spc="-1" strike="noStrike">
                <a:solidFill>
                  <a:srgbClr val="000000"/>
                </a:solidFill>
                <a:latin typeface="Arial Rounded MT Bold"/>
              </a:rPr>
              <a:t> stair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54120" y="152280"/>
            <a:ext cx="327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At</a:t>
            </a: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0" lang="en-US" sz="5400" spc="-1" strike="noStrike" u="sng">
                <a:solidFill>
                  <a:srgbClr val="008000"/>
                </a:solidFill>
                <a:uFillTx/>
                <a:latin typeface="Gill Sans Ultra Bold"/>
              </a:rPr>
              <a:t>HOME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with our arms/han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View Image">
            <a:hlinkClick r:id="rId1"/>
          </p:cNvPr>
          <p:cNvPicPr/>
          <p:nvPr/>
        </p:nvPicPr>
        <p:blipFill>
          <a:blip r:embed="rId2"/>
          <a:srcRect l="33556" t="28800" r="38018" b="21120"/>
          <a:stretch/>
        </p:blipFill>
        <p:spPr>
          <a:xfrm>
            <a:off x="233280" y="1227240"/>
            <a:ext cx="3843360" cy="5089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50" name="" descr="View Image">
            <a:hlinkClick r:id="rId3"/>
          </p:cNvPr>
          <p:cNvPicPr/>
          <p:nvPr/>
        </p:nvPicPr>
        <p:blipFill>
          <a:blip r:embed="rId4"/>
          <a:srcRect l="9986" t="0" r="19775" b="0"/>
          <a:stretch/>
        </p:blipFill>
        <p:spPr>
          <a:xfrm>
            <a:off x="5450040" y="1066680"/>
            <a:ext cx="2776320" cy="5257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952880" y="-763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tairs with our legs/feet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821600">
            <a:off x="3123720" y="1219320"/>
            <a:ext cx="1143000" cy="609480"/>
          </a:xfrm>
          <a:prstGeom prst="leftArrow">
            <a:avLst>
              <a:gd name="adj1" fmla="val 50000"/>
              <a:gd name="adj2" fmla="val 46884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rot="2641200">
            <a:off x="5638680" y="487620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066680" y="603396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800" spc="-1" strike="noStrike" u="sng">
                <a:solidFill>
                  <a:srgbClr val="008000"/>
                </a:solidFill>
                <a:uFillTx/>
                <a:latin typeface="Gill Sans Ultra Bold"/>
              </a:rPr>
              <a:t>T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hen w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in gym, we wil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0040" y="603396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5960" y="601992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Gill Sans Ultra Bold"/>
              </a:rPr>
              <a:t>H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0654" t="10742" r="25333" b="8516"/>
          <a:stretch/>
        </p:blipFill>
        <p:spPr>
          <a:xfrm>
            <a:off x="5987880" y="838080"/>
            <a:ext cx="307980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rcRect l="6285" t="4194" r="34064" b="4194"/>
          <a:stretch/>
        </p:blipFill>
        <p:spPr>
          <a:xfrm>
            <a:off x="3187800" y="838080"/>
            <a:ext cx="252720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rcRect l="11705" t="0" r="22881" b="6553"/>
          <a:stretch/>
        </p:blipFill>
        <p:spPr>
          <a:xfrm>
            <a:off x="76320" y="838080"/>
            <a:ext cx="272736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5400000">
            <a:off x="4716360" y="13780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CLIM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6879240" y="935640"/>
            <a:ext cx="3429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3800" spc="-1" strike="noStrike" u="sng">
                <a:solidFill>
                  <a:srgbClr val="ff0000"/>
                </a:solidFill>
                <a:uFillTx/>
                <a:latin typeface="Gill Sans Ultra Bold"/>
              </a:rPr>
              <a:t>GYM</a:t>
            </a:r>
            <a:r>
              <a:rPr b="0" lang="en-US" sz="3800" spc="-1" strike="noStrike">
                <a:solidFill>
                  <a:srgbClr val="000000"/>
                </a:solidFill>
                <a:latin typeface="Arial Rounded MT Bold"/>
              </a:rPr>
              <a:t>,               we will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2024640" y="202500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5400" y="3200400"/>
            <a:ext cx="2686320" cy="3581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37445" b="0"/>
          <a:stretch/>
        </p:blipFill>
        <p:spPr>
          <a:xfrm>
            <a:off x="76320" y="3124080"/>
            <a:ext cx="2590560" cy="3657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7" name=""/>
          <p:cNvSpPr/>
          <p:nvPr/>
        </p:nvSpPr>
        <p:spPr>
          <a:xfrm rot="5400000">
            <a:off x="-1404000" y="149292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rcRect l="8506" t="10647" r="10732" b="25299"/>
          <a:stretch/>
        </p:blipFill>
        <p:spPr>
          <a:xfrm>
            <a:off x="2895480" y="4038480"/>
            <a:ext cx="3200400" cy="1903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5400000">
            <a:off x="5294160" y="30085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4400" spc="-1" strike="noStrike" u="sng">
                <a:solidFill>
                  <a:srgbClr val="008000"/>
                </a:solidFill>
                <a:uFillTx/>
                <a:latin typeface="Gill Sans Ultra Bold"/>
              </a:rPr>
              <a:t>GYM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today, 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we wil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91200" y="5094720"/>
            <a:ext cx="23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29240" y="1905120"/>
            <a:ext cx="3600360" cy="480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rcRect l="8516" t="10654" r="10742" b="25333"/>
          <a:stretch/>
        </p:blipFill>
        <p:spPr>
          <a:xfrm>
            <a:off x="228600" y="2195640"/>
            <a:ext cx="3733920" cy="221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rcRect l="6553" t="11705" r="0" b="22881"/>
          <a:stretch/>
        </p:blipFill>
        <p:spPr>
          <a:xfrm>
            <a:off x="228600" y="152280"/>
            <a:ext cx="3733920" cy="19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 rot="5400000">
            <a:off x="4068360" y="577800"/>
            <a:ext cx="2286000" cy="11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5400000">
            <a:off x="5294160" y="30085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4400" spc="-1" strike="noStrike" u="sng">
                <a:solidFill>
                  <a:srgbClr val="008000"/>
                </a:solidFill>
                <a:uFillTx/>
                <a:latin typeface="Gill Sans Ultra Bold"/>
              </a:rPr>
              <a:t>GYM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today, 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we wil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4806000" y="5094720"/>
            <a:ext cx="23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600360" cy="480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rcRect l="8516" t="10654" r="10742" b="25333"/>
          <a:stretch/>
        </p:blipFill>
        <p:spPr>
          <a:xfrm>
            <a:off x="4343400" y="2195640"/>
            <a:ext cx="3733920" cy="221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rcRect l="6553" t="11705" r="0" b="22881"/>
          <a:stretch/>
        </p:blipFill>
        <p:spPr>
          <a:xfrm>
            <a:off x="4343400" y="152280"/>
            <a:ext cx="3733920" cy="19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 rot="5400000">
            <a:off x="-503280" y="501480"/>
            <a:ext cx="2286000" cy="11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5:09:04Z</dcterms:created>
  <dc:creator>TeachCLO</dc:creator>
  <dc:description/>
  <dc:language>en-US</dc:language>
  <cp:lastModifiedBy>fps</cp:lastModifiedBy>
  <dcterms:modified xsi:type="dcterms:W3CDTF">2011-06-17T17:40:55Z</dcterms:modified>
  <cp:revision>13</cp:revision>
  <dc:subject/>
  <dc:title>Slide 1</dc:title>
</cp:coreProperties>
</file>