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1E00-FC3D-4FC7-8643-61273E1B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6C1-9CD8-403F-BE13-3F0024E3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E28-B540-4459-A474-92568485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54FB-0292-466B-B3EE-A6CA95B9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C996-D480-46F4-B97D-6F18CC43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9F0F-59AA-4FBA-9AD0-FBDDFF12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989F-CBDA-433F-BBDB-47BF9C50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D248-03E0-42C1-94CA-4390F400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DDD-A11F-493B-BB36-7FDAD867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C4E4-6BAF-41B0-B22D-0D4E819D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794-BA29-4BBB-A9B2-A7AD67EF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78AC-E199-4479-911D-96733B25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A05E-AA3D-40C8-8004-ABEC7EC0A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5410440" cy="3992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52280"/>
            <a:ext cx="6553440" cy="426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1522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howcard Gothic"/>
              </a:rPr>
              <a:t>Swimming Progres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457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76212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oday I worked on the following skills in the wa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143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3716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8288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143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286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066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ter wal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2952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loat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5238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ick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75248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sliding hands along side of pool (gutter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10666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lowing bub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2096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sory water expl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0481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 was _________________ in the water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3352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3526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rv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3352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ci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3352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p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82428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Overall comments:</a:t>
            </a:r>
            <a:r>
              <a:rPr b="1" i="1" lang="en-US" sz="1300" spc="-1" strike="noStrike">
                <a:solidFill>
                  <a:srgbClr val="000000"/>
                </a:solidFill>
                <a:latin typeface="Comic Sans MS"/>
              </a:rPr>
              <a:t> (additional space on back if need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5146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(motor, sensory, dress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33526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13716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1295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ll play (throwing/retrieving, pushing, catch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18288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175248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ump/fall from side with or without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22096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410080" y="3429000"/>
            <a:ext cx="1247760" cy="939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9480" y="4800600"/>
            <a:ext cx="5410440" cy="3992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2280" y="4800600"/>
            <a:ext cx="655344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4800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howcard Gothic"/>
              </a:rPr>
              <a:t>Swimming Progres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5105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5105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54100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oday I worked on the following skills in the wa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5791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60199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62485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64771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5791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6934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5715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ter wal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59436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loat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61722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ick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640080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sliding hands along side of pool (gutter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57150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lowing bub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858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sory water expl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76960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 was _________________ in the water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8001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80010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rv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8001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ci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8001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p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847260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Overall comments:</a:t>
            </a:r>
            <a:r>
              <a:rPr b="1" i="1" lang="en-US" sz="1300" spc="-1" strike="noStrike">
                <a:solidFill>
                  <a:srgbClr val="000000"/>
                </a:solidFill>
                <a:latin typeface="Comic Sans MS"/>
              </a:rPr>
              <a:t> (additional space on back if need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7207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(motor, sensory, dress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80010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60199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594360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ll play (throwing/retrieving, pushing, catch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64771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640080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ump/fall from side with or without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685800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6934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410080" y="8077320"/>
            <a:ext cx="124776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5:56:25Z</dcterms:created>
  <dc:creator>admin</dc:creator>
  <dc:description/>
  <dc:language>en-US</dc:language>
  <cp:lastModifiedBy>fps</cp:lastModifiedBy>
  <dcterms:modified xsi:type="dcterms:W3CDTF">2010-12-14T19:35:56Z</dcterms:modified>
  <cp:revision>6</cp:revision>
  <dc:subject/>
  <dc:title>Slide 1</dc:title>
</cp:coreProperties>
</file>