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147-E6EE-4F63-8AFB-9A5889E0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42C-819F-4B21-B598-577C796E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8DE-0540-4C88-B382-29545F1A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3A0-665D-4E94-99DD-6D9003EB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160-920C-4E28-8E29-DB5402F0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0FF-CC84-48F6-98F2-9FCE61A0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624-450C-4F8A-BD9B-13E79FDA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F81-C7D2-4E0D-82CE-E80E9CB5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383-7C4C-4C75-B020-9D787D79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BEC-196F-47D0-8C03-C43FAB1D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2E2-6F32-42A0-B4F8-E315DA7A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DAE-6A47-4EEE-8BE6-63543320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5B17-F536-45B4-9C70-24F186444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5410440" cy="399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655344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76212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066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952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38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7524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10666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0481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24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5146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295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7524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2096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1247760" cy="93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5410440" cy="3992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4800600"/>
            <a:ext cx="655344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4100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2485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715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5943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172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40080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5715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858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76960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84726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7207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94360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64008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685800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410080" y="8077320"/>
            <a:ext cx="12477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5:56:25Z</dcterms:created>
  <dc:creator>admin</dc:creator>
  <dc:description/>
  <dc:language>en-US</dc:language>
  <cp:lastModifiedBy>fps</cp:lastModifiedBy>
  <dcterms:modified xsi:type="dcterms:W3CDTF">2010-12-14T19:35:56Z</dcterms:modified>
  <cp:revision>6</cp:revision>
  <dc:subject/>
  <dc:title>Slide 1</dc:title>
</cp:coreProperties>
</file>