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A09-45BB-4FE1-B40C-62A0DD12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BEA-709D-4425-B0C4-5CE2B063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6C8-0966-4790-BF05-4A397AE3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817-0746-4AE1-A2EE-5026C270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0E8-254C-482F-80E7-F7FDE793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8D3-22D1-43BA-A6DC-1F7FE18F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B6D-9025-49CC-AC16-B13BDD27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DC8-425C-4A9F-A25C-A96BC67B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26D-F0A5-45F3-9FB2-DF853421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4A9-091B-46B6-9436-4FBEF71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E4D-5952-4B75-9F3F-5B2E8373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D7D-2B97-449B-9A2B-F9CF1EF4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D68B-7977-4B2D-887F-430547356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5410440" cy="399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655344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76212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066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952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38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7524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10666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0481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24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5146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295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7524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2096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1247760" cy="93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5410440" cy="3992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4800600"/>
            <a:ext cx="655344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4100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2485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715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5943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172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40080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5715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858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76960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84726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7207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94360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64008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685800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410080" y="8077320"/>
            <a:ext cx="12477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5:56:25Z</dcterms:created>
  <dc:creator>admin</dc:creator>
  <dc:description/>
  <dc:language>en-US</dc:language>
  <cp:lastModifiedBy>fps</cp:lastModifiedBy>
  <dcterms:modified xsi:type="dcterms:W3CDTF">2010-12-14T19:35:56Z</dcterms:modified>
  <cp:revision>6</cp:revision>
  <dc:subject/>
  <dc:title>Slide 1</dc:title>
</cp:coreProperties>
</file>