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F1C84-3E83-4AB2-A3D0-F6E981312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6D16D-1D56-40B3-BF56-3D0BA5760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7E486-DD0E-475C-9B96-D037254A5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5AF7F-570E-4E20-B2E5-0C772392E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2F8AA-5908-4591-A2B7-48D72E9A4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E0361-C477-4294-828D-C03DC89F8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A6DB5-F758-4519-9FF7-1DC8FD6B8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FB0CF-EE61-418D-BFAA-C0E391E10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C75FB-9B24-48C9-8DB0-BB4FECEC3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396F6-427A-4C49-8410-59FA49C35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59B86-FFCA-4124-844B-AFB98146F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9E717-4AC4-485E-A194-4BC5483A2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F4D4E-C179-4B01-99AD-A37D6AA54C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5410440" cy="39927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52280" y="152280"/>
            <a:ext cx="6553440" cy="426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47920" y="152280"/>
            <a:ext cx="388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howcard Gothic"/>
              </a:rPr>
              <a:t>Swimming Progress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45720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m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733920" y="45720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at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8600" y="762120"/>
            <a:ext cx="6400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Today I worked on the following skills in the water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1143000"/>
            <a:ext cx="22860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1371600"/>
            <a:ext cx="22860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1600200"/>
            <a:ext cx="22860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1828800"/>
            <a:ext cx="22860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581280" y="1143000"/>
            <a:ext cx="22860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57200" y="2286000"/>
            <a:ext cx="22860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1066680"/>
            <a:ext cx="16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ater walk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5800" y="1295280"/>
            <a:ext cx="297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floating on back/stom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85800" y="1523880"/>
            <a:ext cx="266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kicking on back/stom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5800" y="1752480"/>
            <a:ext cx="2514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mic Sans MS"/>
              </a:rPr>
              <a:t>sliding hands along side of pool (guttering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809880" y="1066680"/>
            <a:ext cx="23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blowing bubb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5800" y="2209680"/>
            <a:ext cx="243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sory water explo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28600" y="3048120"/>
            <a:ext cx="5943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I was _________________ in the water today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3429000"/>
            <a:ext cx="22860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3429000"/>
            <a:ext cx="22860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371600" y="3429000"/>
            <a:ext cx="22860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648320" y="3429000"/>
            <a:ext cx="22860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09480" y="3352680"/>
            <a:ext cx="16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happ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733920" y="3352680"/>
            <a:ext cx="167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nervo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600200" y="3352680"/>
            <a:ext cx="16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xci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743200" y="3352680"/>
            <a:ext cx="16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p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3824280"/>
            <a:ext cx="556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Comic Sans MS"/>
              </a:rPr>
              <a:t>Overall comments:</a:t>
            </a:r>
            <a:r>
              <a:rPr b="1" i="1" lang="en-US" sz="1300" spc="-1" strike="noStrike">
                <a:solidFill>
                  <a:srgbClr val="000000"/>
                </a:solidFill>
                <a:latin typeface="Comic Sans MS"/>
              </a:rPr>
              <a:t> (additional space on back if needed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251460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Goals:</a:t>
            </a: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 (motor, sensory, dressing, etc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514600" y="3429000"/>
            <a:ext cx="22860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876920" y="3352680"/>
            <a:ext cx="167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oth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581280" y="1371600"/>
            <a:ext cx="22860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809880" y="1295280"/>
            <a:ext cx="2895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ball play (throwing/retrieving, pushing, catching, etc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581280" y="1828800"/>
            <a:ext cx="22860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809880" y="1752480"/>
            <a:ext cx="2438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jump/fall from side with or without assist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809880" y="2209680"/>
            <a:ext cx="243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oth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581280" y="2286000"/>
            <a:ext cx="22860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5410080" y="3429000"/>
            <a:ext cx="1247760" cy="939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609480" y="4800600"/>
            <a:ext cx="5410440" cy="3992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152280" y="4800600"/>
            <a:ext cx="6553440" cy="426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447920" y="4800600"/>
            <a:ext cx="388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howcard Gothic"/>
              </a:rPr>
              <a:t>Swimming Progress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510552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m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733920" y="510552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at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28600" y="5410080"/>
            <a:ext cx="6400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Today I worked on the following skills in the water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57200" y="5791320"/>
            <a:ext cx="22860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" y="6019920"/>
            <a:ext cx="22860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6248520"/>
            <a:ext cx="22860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200" y="6477120"/>
            <a:ext cx="22860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581280" y="5791320"/>
            <a:ext cx="22860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57200" y="6934320"/>
            <a:ext cx="22860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85800" y="5715000"/>
            <a:ext cx="16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ater walk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85800" y="5943600"/>
            <a:ext cx="297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floating on back/stom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5800" y="6172200"/>
            <a:ext cx="266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kicking on back/stom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85800" y="6400800"/>
            <a:ext cx="2514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mic Sans MS"/>
              </a:rPr>
              <a:t>sliding hands along side of pool (guttering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809880" y="5715000"/>
            <a:ext cx="23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blowing bubb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85800" y="6858000"/>
            <a:ext cx="243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sory water explo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28600" y="7696080"/>
            <a:ext cx="5943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I was _________________ in the water today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80880" y="8077320"/>
            <a:ext cx="22860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429000" y="8077320"/>
            <a:ext cx="22860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8077320"/>
            <a:ext cx="22860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648320" y="8077320"/>
            <a:ext cx="22860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9480" y="8001000"/>
            <a:ext cx="16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happ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733920" y="8001000"/>
            <a:ext cx="167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nervo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600200" y="8001000"/>
            <a:ext cx="16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xci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743200" y="8001000"/>
            <a:ext cx="16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p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" y="8472600"/>
            <a:ext cx="556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Comic Sans MS"/>
              </a:rPr>
              <a:t>Overall comments:</a:t>
            </a:r>
            <a:r>
              <a:rPr b="1" i="1" lang="en-US" sz="1300" spc="-1" strike="noStrike">
                <a:solidFill>
                  <a:srgbClr val="000000"/>
                </a:solidFill>
                <a:latin typeface="Comic Sans MS"/>
              </a:rPr>
              <a:t> (additional space on back if needed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28600" y="720720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Goals:</a:t>
            </a: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 (motor, sensory, dressing, etc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14600" y="8077320"/>
            <a:ext cx="22860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876920" y="8001000"/>
            <a:ext cx="167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oth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581280" y="6019920"/>
            <a:ext cx="22860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809880" y="5943600"/>
            <a:ext cx="2895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ball play (throwing/retrieving, pushing, catching, etc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581280" y="6477120"/>
            <a:ext cx="22860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809880" y="6400800"/>
            <a:ext cx="2438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jump/fall from side with or without assist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809880" y="6858000"/>
            <a:ext cx="243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oth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581280" y="6934320"/>
            <a:ext cx="22860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4"/>
          <a:stretch/>
        </p:blipFill>
        <p:spPr>
          <a:xfrm>
            <a:off x="5410080" y="8077320"/>
            <a:ext cx="1247760" cy="93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2T15:56:25Z</dcterms:created>
  <dc:creator>admin</dc:creator>
  <dc:description/>
  <dc:language>en-US</dc:language>
  <cp:lastModifiedBy>fps</cp:lastModifiedBy>
  <dcterms:modified xsi:type="dcterms:W3CDTF">2010-12-14T19:35:56Z</dcterms:modified>
  <cp:revision>6</cp:revision>
  <dc:subject/>
  <dc:title>Slide 1</dc:title>
</cp:coreProperties>
</file>