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2BB-2284-4EDB-9BA6-E1F168AD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544-FD4B-4529-8D94-F83A28D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8A6-A6A6-44A3-AAC7-A15CAD1F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BDC-E93F-417B-AA49-61228F55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45F-0A01-4904-B26A-F943433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16F-6CFF-4163-A345-AF46E2CF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7A7-1559-4B25-B2B4-D4BF3C9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A12-85C8-45AF-A2B4-A6FE50E4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4AF-406B-4AED-B9EC-26CC2C77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585-C6B5-4FD6-A0C6-152A5E9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61D-1CD6-46E2-B7B8-FCFC7F3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56E-1ECB-4DED-AB48-F61E07E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5414-732B-4160-B97B-237DCB59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5410440" cy="39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52280"/>
            <a:ext cx="655344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57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76212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143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066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952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5238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7524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1066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3526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2428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429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3526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13716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295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18288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7524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2209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247760" cy="93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4800600"/>
            <a:ext cx="5410440" cy="3992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4800600"/>
            <a:ext cx="65534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howcard Gothic"/>
              </a:rPr>
              <a:t>Swimming Progres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5105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4100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oday I worked on the following skills in the wa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2485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ter wal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59436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loat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1722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icking on back/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40080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liding hands along side of pool (gutterin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5715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owing bub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858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sory water 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9608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was _________________ in the water tod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r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c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8001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p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8472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all comments:</a:t>
            </a:r>
            <a:r>
              <a:rPr b="1" i="1" lang="en-US" sz="1300" spc="-1" strike="noStrike">
                <a:solidFill>
                  <a:srgbClr val="000000"/>
                </a:solidFill>
                <a:latin typeface="Comic Sans MS"/>
              </a:rPr>
              <a:t> (additional space on back if need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207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(motor, sensory, dress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8077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80010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594360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ll play (throwing/retrieving, pushing, catching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64771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4008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ump/fall from side with or without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685800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th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6934320"/>
            <a:ext cx="2286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410080" y="8077320"/>
            <a:ext cx="12477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5:56:25Z</dcterms:created>
  <dc:creator>admin</dc:creator>
  <dc:description/>
  <dc:language>en-US</dc:language>
  <cp:lastModifiedBy>fps</cp:lastModifiedBy>
  <dcterms:modified xsi:type="dcterms:W3CDTF">2010-12-14T19:35:56Z</dcterms:modified>
  <cp:revision>6</cp:revision>
  <dc:subject/>
  <dc:title>Slide 1</dc:title>
</cp:coreProperties>
</file>